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53751"/>
        <c:axId val="48457896"/>
      </c:barChart>
      <c:catAx>
        <c:axId val="79353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7896"/>
        <c:crosses val="autoZero"/>
        <c:auto val="1"/>
        <c:lblAlgn val="ctr"/>
        <c:lblOffset val="100"/>
        <c:noMultiLvlLbl val="0"/>
      </c:catAx>
      <c:valAx>
        <c:axId val="48457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53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E3E-2D68-4851-BA1F-915BA787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8EE-7362-41A7-A646-8A33DB1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DD0-D61C-4F54-91FD-694C86F6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048-6482-4532-82EA-6376F22B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956-DCB9-4359-89FA-3DA4C92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25A-E3D0-40EF-862F-30BB9F1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AA2-DF2B-4EF3-8EC0-FFFA030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80C-443D-46B8-AEC0-26D37CE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FD5-63F6-4791-8BC7-03E305B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6A8-0DBB-4577-890B-E091A74B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EC9-2E3C-4DFE-BFBE-8FB5B53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EAA-479C-4329-A792-F7CD0DCD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0D3AE-7F47-4AEF-90DF-971245AA2E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