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5625"/>
        <c:axId val="84076894"/>
      </c:barChart>
      <c:catAx>
        <c:axId val="6805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76894"/>
        <c:crosses val="autoZero"/>
        <c:auto val="1"/>
        <c:lblAlgn val="ctr"/>
        <c:lblOffset val="100"/>
        <c:noMultiLvlLbl val="0"/>
      </c:catAx>
      <c:valAx>
        <c:axId val="84076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5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E50-2D6C-41D5-A3EA-CA7CEDC9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D81-5CA5-4032-8BB0-299A8177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41B-58A3-4C24-9EA3-20B22CF9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76D-6D61-4B9B-A8F3-0D1D784B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D72-8CFD-45AE-87BE-BB11BDE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E18-8DCF-434D-AF07-3AA835ED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E7C-DDF7-45A8-9884-479E9A0A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2C6-E561-444C-BA50-BC137A19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46A-BC9D-4EE4-B92C-300CA794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8BA-F85D-4251-A941-E3028A3A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6A0-EA06-44BC-9C0A-33304DB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F54-78C9-4879-8A35-979A222C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5D232-FAE4-4FE5-8843-4703E32E5B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